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F5A-31BB-4703-B06D-D99710D9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99C-BD49-418D-B0DE-05932468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812-B44F-4959-8B77-29C12F687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E1C-EC42-4E91-9B7A-E31F230D4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F6E2-B48E-4ACB-90FE-B60725B3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3E9C-3924-44CD-8CA4-BA157D84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143-4C61-4AE9-B93C-C950FB18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F57B-0B35-425D-9AA8-8B5C6C10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BD4B-FFF2-40B3-B183-DAC6FFC4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A0F-98EE-4AEE-A1BA-B5E774E0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037-750E-42A2-B01A-18BDC90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10D-1C17-4A52-934B-71D14FBC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370C-D9C0-41FB-9FD3-38E613E4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careercruising.com/" TargetMode="External"/><Relationship Id="rId2" Type="http://schemas.openxmlformats.org/officeDocument/2006/relationships/hyperlink" Target="http://www.nycareerzone.org/" TargetMode="External"/><Relationship Id="rId3" Type="http://schemas.openxmlformats.org/officeDocument/2006/relationships/hyperlink" Target="http://www.educationforadults.com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cc"/>
            </a:gs>
            <a:gs pos="100000">
              <a:srgbClr val="5e00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Doct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990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Job Outloo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uring 2006, there were approximately 1,540 Pediatricians employed in New Y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NY career zone estimated that in 2016 there will be 1,640 employed in New Y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Satisfactions/Rewards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Reward of  knowing that you helped some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nding cures for disea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Being their for both parents and ki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9999"/>
                </a:solidFill>
                <a:uFillTx/>
                <a:latin typeface="Comic Sans MS"/>
              </a:rPr>
              <a:t>Resourc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www.careercruisi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www.nycareerzone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www.educationforadult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Job Descriptio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Have to be interested in the human b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any different kinds of doctors such as, Family Practitioners and Pediatricia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First responsibility is to diagnose patients injuries/il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Job Description Continu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reatments can include, dressing wounds, prescribing or administrating medication, arranging surgery, recommending rehabilitation or providing advice about exercise or nutr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ffff"/>
                </a:solidFill>
                <a:uFillTx/>
                <a:latin typeface="Comic Sans MS"/>
              </a:rPr>
              <a:t>Working Condi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Indoors in a office, hospital or doctors off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57804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Education and Training Requiremen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ducation- 4 years of undergraduate school, 4 years of medical school, 3-8 years of Internship and Resid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62720" y="4343400"/>
            <a:ext cx="27432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Comic Sans MS"/>
              </a:rPr>
              <a:t>Skills/Abilities &amp; Person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Science and math ski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Needs to be able to listen to the patients proble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ff"/>
                </a:solidFill>
                <a:uFillTx/>
                <a:latin typeface="Comic Sans MS"/>
              </a:rPr>
              <a:t>Skills/Abilities &amp; Personality Continue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ve to be caring and pati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Needs to be clear when communica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ave to be organiz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5a8e6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Career Path and Related Job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hospitals: Nurses, Orderlies and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 office: Assistants, Nurses and Secreta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952880" y="3657600"/>
            <a:ext cx="2781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66ffff"/>
            </a:gs>
            <a:gs pos="50000">
              <a:srgbClr val="dbfefe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omic Sans MS"/>
              </a:rPr>
              <a:t>Earning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ritical Care: $187,000 - $320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nternal Medicine: $154,000 – $238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ediatrics: $135,000 - $271,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399360" y="4800600"/>
            <a:ext cx="2744640" cy="274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6:57:29Z</dcterms:created>
  <dc:creator>Administrator</dc:creator>
  <dc:description/>
  <dc:language>en-US</dc:language>
  <cp:lastModifiedBy>Administrator</cp:lastModifiedBy>
  <dcterms:modified xsi:type="dcterms:W3CDTF">2009-12-08T17:03:26Z</dcterms:modified>
  <cp:revision>10</cp:revision>
  <dc:subject/>
  <dc:title>Doctor</dc:title>
</cp:coreProperties>
</file>